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57346-0026-499A-ABD3-84DF053D2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1460D-BD7D-45ED-BAFB-299758D58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91B74-AE7A-4BDB-9D95-9E907F7F3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CA38F-AA6A-47BF-8280-5328E0ED0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BB392-986C-4BAF-B94B-3F14155A1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B0303-E11C-467A-816B-43211835F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9EEE4-7DF4-4B30-A2B6-3A1AC5CF6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20AAD-5220-404D-BD5D-740BBF010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9BEA0-328D-4745-97F5-21FE8A612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C48E2-44CF-4FE4-BA52-78DBFEA61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64054-D901-4FBC-81A0-5520357BB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96EE6-ECB6-40E9-84F0-1E7E4AA1D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7D574-ABA0-4158-9784-E5848D34DD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468000" y="4869000"/>
            <a:ext cx="8280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сследование группы учащихся 4 клас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ОУ «Красногвардейская средняя общеобразовательная школа №1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258920" y="404640"/>
            <a:ext cx="6408720" cy="13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колько рук его растило,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Охраняло, берегло!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843280" y="2077920"/>
            <a:ext cx="3529080" cy="26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На пашн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ешнее приволь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сердце - благодать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ружно станем в пол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емлю мы паха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Хлеб рождается в бороздк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смотри - ка на пол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едь земля - земля не просто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 кормилица земля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859280" y="1628640"/>
            <a:ext cx="2335320" cy="2448000"/>
          </a:xfrm>
          <a:prstGeom prst="rect">
            <a:avLst/>
          </a:prstGeom>
          <a:ln w="0">
            <a:noFill/>
          </a:ln>
        </p:spPr>
      </p:pic>
      <p:pic>
        <p:nvPicPr>
          <p:cNvPr id="47" name="Изображение 037" descr=""/>
          <p:cNvPicPr/>
          <p:nvPr/>
        </p:nvPicPr>
        <p:blipFill>
          <a:blip r:embed="rId2"/>
          <a:stretch/>
        </p:blipFill>
        <p:spPr>
          <a:xfrm>
            <a:off x="826920" y="4508640"/>
            <a:ext cx="2400480" cy="150012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Хлеб созрел, но к нам на стол</a:t>
            </a:r>
            <a:br>
              <a:rPr sz="3200"/>
            </a:b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Прямо с поля не пошёл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50560" y="2349000"/>
            <a:ext cx="6048360" cy="26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Хлеб созре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полях мото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есню жатвы заве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степь выводят комбайне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левые кораб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5508720" y="1700280"/>
            <a:ext cx="3238560" cy="19335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539640" y="5013360"/>
            <a:ext cx="284508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«Хлеб - на стол, и стол расцвел»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тал ветряк уже не годен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тароват и малова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аменил его сегодн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укомольный комбина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втомат замесит тесто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втомат развесит тесто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втомат нарежет тест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 отправит тесто в печ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5651640" y="1557360"/>
            <a:ext cx="2160360" cy="16207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1116000" y="4149720"/>
            <a:ext cx="2995560" cy="200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4:27:10Z</dcterms:created>
  <dc:creator>User</dc:creator>
  <dc:description/>
  <dc:language>en-US</dc:language>
  <cp:lastModifiedBy>User</cp:lastModifiedBy>
  <dcterms:modified xsi:type="dcterms:W3CDTF">2008-02-23T15:24:11Z</dcterms:modified>
  <cp:revision>2</cp:revision>
  <dc:subject/>
  <dc:title>Слайд 1</dc:title>
</cp:coreProperties>
</file>